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C53-3979-4F0A-A79F-9054CF4C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4E2-F9FF-4455-9E43-6A21551B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D33-98C7-414A-8246-88B4F845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300-F8F5-4223-9663-0C36FF98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F74-80A3-4570-8947-7938AF49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D19-048D-4AB5-A576-DC860596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6AA-2CE9-463A-BA1F-E0FC9DD3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DC7-6CF6-401D-BA0A-4CD8EE54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7DE-903D-43BA-8367-8A4160DD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5F4-5E43-4084-B04A-B524EB81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7D6-B4E7-4246-A848-333C5938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017-DBA4-495C-B1EC-1A2CEC85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83CF-B6E6-4A87-A3BC-AD2FD7B69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ic Management Skil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, organizing, staffing, directing, coordinating, reporting: necessary but not su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human interaction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629400" y="38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184800" y="2705040"/>
            <a:ext cx="2946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184800" y="3162240"/>
            <a:ext cx="2959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GA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6184800" y="36194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184800" y="40766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DIR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ypes of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h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-rang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c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184800" y="45338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OORD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184800" y="49910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bd06887_"/>
          <p:cNvPicPr/>
          <p:nvPr/>
        </p:nvPicPr>
        <p:blipFill>
          <a:blip r:embed="rId1"/>
          <a:stretch/>
        </p:blipFill>
        <p:spPr>
          <a:xfrm>
            <a:off x="6199200" y="0"/>
            <a:ext cx="3048120" cy="27320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629400" y="38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184800" y="2705040"/>
            <a:ext cx="2946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184800" y="3162240"/>
            <a:ext cx="29592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184800" y="36194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84800" y="40766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DIR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1920" y="1599840"/>
            <a:ext cx="5791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 organizational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organization work fo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organization match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184800" y="45338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OORD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184800" y="49910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0"/>
          <p:cNvGraphicFramePr/>
          <p:nvPr/>
        </p:nvGraphicFramePr>
        <p:xfrm>
          <a:off x="6095880" y="76320"/>
          <a:ext cx="2921040" cy="251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76320"/>
                    <a:ext cx="2921040" cy="25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629400" y="38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184800" y="2705040"/>
            <a:ext cx="2946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184800" y="3162240"/>
            <a:ext cx="2959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GA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184800" y="3619440"/>
            <a:ext cx="2971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184800" y="40766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DIR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228600" y="16002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HR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what you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 strengths and weak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personalities to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184800" y="45338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OORD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84800" y="49910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Object 10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971800" cy="23716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629400" y="38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184800" y="2705040"/>
            <a:ext cx="2946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184800" y="3162240"/>
            <a:ext cx="2959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GA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84800" y="36194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184800" y="4076640"/>
            <a:ext cx="2971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457560" y="121896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ing your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s-off vs. hands-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 when things are going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when correction avoids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184800" y="45338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OORD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6184800" y="49910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0" descr="bd04956_"/>
          <p:cNvPicPr/>
          <p:nvPr/>
        </p:nvPicPr>
        <p:blipFill>
          <a:blip r:embed="rId1"/>
          <a:stretch/>
        </p:blipFill>
        <p:spPr>
          <a:xfrm>
            <a:off x="5791320" y="304920"/>
            <a:ext cx="3352680" cy="22780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629400" y="38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184800" y="2705040"/>
            <a:ext cx="2946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184800" y="3162240"/>
            <a:ext cx="2959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GA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184800" y="36194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184800" y="4076640"/>
            <a:ext cx="2971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04920" y="1218960"/>
            <a:ext cx="6553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human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184800" y="45338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OORD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6184800" y="49910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bd04956_"/>
          <p:cNvPicPr/>
          <p:nvPr/>
        </p:nvPicPr>
        <p:blipFill>
          <a:blip r:embed="rId1"/>
          <a:stretch/>
        </p:blipFill>
        <p:spPr>
          <a:xfrm>
            <a:off x="5791320" y="304920"/>
            <a:ext cx="3352680" cy="22780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629400" y="38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184800" y="2705040"/>
            <a:ext cx="2946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184800" y="3162240"/>
            <a:ext cx="2959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GA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84800" y="36194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184800" y="40766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DIR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5867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ordinating vs. Contro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e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ntralized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184800" y="4533840"/>
            <a:ext cx="2971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184800" y="49910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" descr="bd04912_"/>
          <p:cNvPicPr/>
          <p:nvPr/>
        </p:nvPicPr>
        <p:blipFill>
          <a:blip r:embed="rId1"/>
          <a:stretch/>
        </p:blipFill>
        <p:spPr>
          <a:xfrm>
            <a:off x="6149880" y="-149400"/>
            <a:ext cx="3200400" cy="28814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629400" y="38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184800" y="2705040"/>
            <a:ext cx="2946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84800" y="3162240"/>
            <a:ext cx="2959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GA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184800" y="36194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184800" y="40766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DIR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2514600"/>
            <a:ext cx="5486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for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for fo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for bre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for 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184800" y="4533840"/>
            <a:ext cx="2971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OORD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184800" y="4991040"/>
            <a:ext cx="2971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" descr="bd07173_"/>
          <p:cNvPicPr/>
          <p:nvPr/>
        </p:nvPicPr>
        <p:blipFill>
          <a:blip r:embed="rId1"/>
          <a:stretch/>
        </p:blipFill>
        <p:spPr>
          <a:xfrm>
            <a:off x="6151680" y="-61920"/>
            <a:ext cx="3278160" cy="2784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9:26:26Z</dcterms:created>
  <dc:creator/>
  <dc:description/>
  <dc:language>en-US</dc:language>
  <cp:lastModifiedBy>Bright</cp:lastModifiedBy>
  <dcterms:modified xsi:type="dcterms:W3CDTF">2013-08-23T06:25:08Z</dcterms:modified>
  <cp:revision>4</cp:revision>
  <dc:subject/>
  <dc:title>Basic Management Skills</dc:title>
</cp:coreProperties>
</file>